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9.png" ContentType="image/png"/>
  <Override PartName="/ppt/media/image18.wmf" ContentType="image/x-wmf"/>
  <Override PartName="/ppt/media/image16.wmf" ContentType="image/x-wmf"/>
  <Override PartName="/ppt/media/image8.gif" ContentType="image/gif"/>
  <Override PartName="/ppt/media/image15.png" ContentType="image/png"/>
  <Override PartName="/ppt/media/image17.png" ContentType="image/png"/>
  <Override PartName="/ppt/media/image14.gif" ContentType="image/gif"/>
  <Override PartName="/ppt/media/image5.png" ContentType="image/png"/>
  <Override PartName="/ppt/media/image3.png" ContentType="image/png"/>
  <Override PartName="/ppt/media/image12.wmf" ContentType="image/x-wmf"/>
  <Override PartName="/ppt/media/image13.png" ContentType="image/png"/>
  <Override PartName="/ppt/media/image1.jpeg" ContentType="image/jpeg"/>
  <Override PartName="/ppt/media/image4.gif" ContentType="image/gi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7A5A-E9B4-41D1-8D18-C75C625A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9343-770A-4FEB-9653-DC0FED4E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1C25-E5BE-4D87-9D3B-802B644E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B341-273C-4F64-BE3E-254A1E08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F097-A1E7-442B-A43E-75FA49F6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71F5-350B-4312-A1D9-40EB1D21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370C-5D85-414B-8187-E779BB6B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A4B1-E36A-4C1B-BFDA-97901878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A574-0586-4F7B-AF22-5F2054AD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C81F-6DCA-42C3-A8E9-3D059DE4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B206-8DD5-4044-ADAA-D6232794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6D2B-AA2B-4620-80C7-C7474F0C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4D46-AA1D-48ED-9842-DB5CFAD0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43D5-3A23-4BAE-8817-762B39DB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648D-2423-4D9F-B8CF-008144AA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B78C-163D-4811-A119-99C82754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F0AF-99C9-48C2-981D-79C10FE2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2EBD-EA01-4AA2-BAFA-5ED5ABD3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1D85-60BA-43C2-BB63-082D774B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2556-05B2-48F2-B8FC-1F16B9C7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3AA1-D71A-4568-B162-8715A849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CA73-5FBD-4ECC-90FC-7AD8131D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7C95-9548-46E4-934C-17C46576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E7DD-1D01-4854-91A8-4F107ACC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5E99-1970-4F54-9193-1EFBBA60C502}" type="slidenum"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25CB-34C0-4531-B3C5-F9FBB89346A9}" type="slidenum">
              <a:rPr b="0" lang="en-A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2.xml"/><Relationship Id="rId5" Type="http://schemas.openxmlformats.org/officeDocument/2006/relationships/slide" Target="slide7.xml"/><Relationship Id="rId6" Type="http://schemas.openxmlformats.org/officeDocument/2006/relationships/slide" Target="slide4.xml"/><Relationship Id="rId7" Type="http://schemas.openxmlformats.org/officeDocument/2006/relationships/slide" Target="slide8.xml"/><Relationship Id="rId8" Type="http://schemas.openxmlformats.org/officeDocument/2006/relationships/slide" Target="slide5.xm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182520" y="1365120"/>
            <a:ext cx="890604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000080" y="3885840"/>
            <a:ext cx="67723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2" action="ppaction://hlinksldjump"/>
              </a:rPr>
              <a:t>Bill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         </a:t>
            </a: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3" action="ppaction://hlinksldjump"/>
              </a:rPr>
              <a:t>Que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4" action="ppaction://hlinksldjump"/>
              </a:rPr>
              <a:t>Election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   </a:t>
            </a: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5" action="ppaction://hlinksldjump"/>
              </a:rPr>
              <a:t>constitu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6" action="ppaction://hlinksldjump"/>
              </a:rPr>
              <a:t>Law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           </a:t>
            </a: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7" action="ppaction://hlinksldjump"/>
              </a:rPr>
              <a:t>minis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410082"/>
                </a:solidFill>
                <a:uFillTx/>
                <a:latin typeface="Book Antiqua"/>
                <a:hlinkClick r:id="rId8" action="ppaction://hlinksldjump"/>
              </a:rPr>
              <a:t>Vo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n election is when a person or government is chosen by a vot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1428840" y="5929200"/>
            <a:ext cx="2643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410082"/>
                </a:solidFill>
                <a:uFillTx/>
                <a:latin typeface="Book Antiqua"/>
                <a:hlinkClick r:id="rId2" action="ppaction://hlinksldjump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7" name="Picture 2" descr="C:\Program Files\Microsoft Office\Media\CntCD1\Animated\j0219098.gif"/>
          <p:cNvPicPr/>
          <p:nvPr/>
        </p:nvPicPr>
        <p:blipFill>
          <a:blip r:embed="rId3"/>
          <a:stretch/>
        </p:blipFill>
        <p:spPr>
          <a:xfrm>
            <a:off x="4643280" y="3214800"/>
            <a:ext cx="26672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proposal for a new law or to modify a existing law that is presented to the parliamen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1428840" y="6072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1" name="Picture 3" descr="C:\Program Files\Microsoft Office\Media\CntCD1\ClipArt2\j0229705.wmf"/>
          <p:cNvPicPr/>
          <p:nvPr/>
        </p:nvPicPr>
        <p:blipFill>
          <a:blip r:embed="rId2"/>
          <a:stretch/>
        </p:blipFill>
        <p:spPr>
          <a:xfrm>
            <a:off x="5000760" y="2928960"/>
            <a:ext cx="355104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law is a rule that is binn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500120" y="585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2" descr="C:\Program Files\Microsoft Office\Media\CntCD1\Animated\j0189249.gif"/>
          <p:cNvPicPr/>
          <p:nvPr/>
        </p:nvPicPr>
        <p:blipFill>
          <a:blip r:embed="rId2"/>
          <a:stretch/>
        </p:blipFill>
        <p:spPr>
          <a:xfrm>
            <a:off x="4429080" y="2928960"/>
            <a:ext cx="35863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vote is a formal expression of a choice, such as putting a hand up or writing on a peace of pape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1928880" y="621504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Picture 3" descr="C:\Program Files\Microsoft Office\Media\CntCD1\ClipArt7\j0339240.wmf"/>
          <p:cNvPicPr/>
          <p:nvPr/>
        </p:nvPicPr>
        <p:blipFill>
          <a:blip r:embed="rId2"/>
          <a:stretch/>
        </p:blipFill>
        <p:spPr>
          <a:xfrm>
            <a:off x="5143680" y="3286080"/>
            <a:ext cx="31208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The queen is the head of stat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1500120" y="571500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3" name="Picture 3" descr="C:\Program Files\Microsoft Office\Media\CntCD1\ClipArt6\j0294022.wmf"/>
          <p:cNvPicPr/>
          <p:nvPr/>
        </p:nvPicPr>
        <p:blipFill>
          <a:blip r:embed="rId2"/>
          <a:stretch/>
        </p:blipFill>
        <p:spPr>
          <a:xfrm>
            <a:off x="5429160" y="2357280"/>
            <a:ext cx="24321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set of rule that a state or country is run b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2071800" y="57862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2" descr="C:\Program Files\Microsoft Office\Media\CntCD1\Animated\j0336381.gif"/>
          <p:cNvPicPr/>
          <p:nvPr/>
        </p:nvPicPr>
        <p:blipFill>
          <a:blip r:embed="rId2"/>
          <a:stretch/>
        </p:blipFill>
        <p:spPr>
          <a:xfrm>
            <a:off x="4357800" y="2928960"/>
            <a:ext cx="3162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A minister is both a member of the parliament and a member of the executiv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643120" y="6143760"/>
            <a:ext cx="30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Book Antiqua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1" name="Picture 3" descr="C:\Program Files\Microsoft Office\Media\CntCD1\ClipArt1\j0186152.wmf"/>
          <p:cNvPicPr/>
          <p:nvPr/>
        </p:nvPicPr>
        <p:blipFill>
          <a:blip r:embed="rId2"/>
          <a:stretch/>
        </p:blipFill>
        <p:spPr>
          <a:xfrm>
            <a:off x="5429160" y="2428920"/>
            <a:ext cx="2357640" cy="37288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428760" y="6286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Book Antiqua"/>
              </a:rPr>
              <a:t>Click to end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Book Antiqua"/>
              </a:rPr>
              <a:t>The government is a party or a coalition of parties that wins the most  seats in the house of representative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5" name="Picture 2" descr="C:\Program Files\Microsoft Office\MEDIA\CAGCAT10\j0300840.wmf"/>
          <p:cNvPicPr/>
          <p:nvPr/>
        </p:nvPicPr>
        <p:blipFill>
          <a:blip r:embed="rId2"/>
          <a:stretch/>
        </p:blipFill>
        <p:spPr>
          <a:xfrm>
            <a:off x="4572000" y="3429000"/>
            <a:ext cx="27432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22:27:08Z</dcterms:created>
  <dc:creator>Education</dc:creator>
  <dc:description/>
  <dc:language>en-US</dc:language>
  <cp:lastModifiedBy>Education</cp:lastModifiedBy>
  <dcterms:modified xsi:type="dcterms:W3CDTF">2009-10-20T23:27:43Z</dcterms:modified>
  <cp:revision>7</cp:revision>
  <dc:subject/>
  <dc:title>Government glossary</dc:title>
</cp:coreProperties>
</file>